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9FB-7A76-4FEE-B639-38C5AB42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C09-1047-42B7-87E8-BCDEAD61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501-219F-4C63-A8F3-26E780F1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887-1B08-448D-9851-C1CB44AB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4F4-C4E9-4534-A4CB-46CFF713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E49-598F-4EE8-8787-16108594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2EE-46B7-4EA0-B9FE-13571C4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BE4-44A5-44F2-B247-22720702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BB2-5A2F-486F-850F-2211B4CE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039-AB5F-4DFF-B694-49853B4F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88C-9801-4F5D-9D09-C09D9001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627-9B27-4859-A259-A159F78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FD38-AB47-485D-AEE3-E901F56708F7}" type="slidenum">
              <a:rPr b="0" lang="fr-CH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E1.jpg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7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E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E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E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62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E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E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E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E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E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E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E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E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E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E4.jpg"/>
          <p:cNvPicPr/>
          <p:nvPr/>
        </p:nvPicPr>
        <p:blipFill>
          <a:blip r:embed="rId1"/>
          <a:stretch/>
        </p:blipFill>
        <p:spPr>
          <a:xfrm>
            <a:off x="0" y="0"/>
            <a:ext cx="10501200" cy="7000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E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E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E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E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E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E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E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E5.jpg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E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E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E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E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E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E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E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E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E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4:35:50Z</dcterms:created>
  <dc:creator>Philippe</dc:creator>
  <dc:description/>
  <dc:language>en-US</dc:language>
  <cp:lastModifiedBy>Philippe</cp:lastModifiedBy>
  <dcterms:modified xsi:type="dcterms:W3CDTF">2008-08-13T18:05:28Z</dcterms:modified>
  <cp:revision>1</cp:revision>
  <dc:subject/>
  <dc:title>Slide 1</dc:title>
</cp:coreProperties>
</file>