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B7A-0F89-4C44-ADB6-04333B6F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00C-037D-41CE-B769-D5E3F0B4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122-81B8-4719-85BF-626A50B8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7E6-5E8A-4257-AF2C-81D72949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A39-A066-4BD5-B888-94E3FD7C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A19-6E6A-44AB-8218-48F1C104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549-7D72-427E-87E0-53C04228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15D-FC0D-48DD-8A10-ABD858A7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0DE-254F-4CE5-85A1-AD8C950D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A0D-FC43-41E0-B661-5571B189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8E2-8552-4C81-82A3-A921274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76E-A937-455B-89A5-9D9238A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F0F2-846E-4D1C-A087-DEA0D28712A6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6787" t="404" r="63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4"/>
          <p:cNvGrpSpPr/>
          <p:nvPr/>
        </p:nvGrpSpPr>
        <p:grpSpPr>
          <a:xfrm>
            <a:off x="4416120" y="1671120"/>
            <a:ext cx="4453560" cy="6325920"/>
            <a:chOff x="4416120" y="1671120"/>
            <a:chExt cx="4453560" cy="6325920"/>
          </a:xfrm>
        </p:grpSpPr>
        <p:sp>
          <p:nvSpPr>
            <p:cNvPr id="43" name="Rectangle 10"/>
            <p:cNvSpPr/>
            <p:nvPr/>
          </p:nvSpPr>
          <p:spPr>
            <a:xfrm rot="21063600">
              <a:off x="4469400" y="2993040"/>
              <a:ext cx="4346640" cy="1027080"/>
            </a:xfrm>
            <a:prstGeom prst="rect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12"/>
            <p:cNvSpPr/>
            <p:nvPr/>
          </p:nvSpPr>
          <p:spPr>
            <a:xfrm rot="4863600">
              <a:off x="3730680" y="4320000"/>
              <a:ext cx="6242040" cy="1027440"/>
            </a:xfrm>
            <a:prstGeom prst="rect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08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" name="Rectangle 20" descr=""/>
          <p:cNvPicPr/>
          <p:nvPr/>
        </p:nvPicPr>
        <p:blipFill>
          <a:blip r:embed="rId2"/>
          <a:stretch/>
        </p:blipFill>
        <p:spPr>
          <a:xfrm>
            <a:off x="6480" y="360360"/>
            <a:ext cx="55404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31083" t="33952" r="17251" b="67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8" descr=""/>
          <p:cNvPicPr/>
          <p:nvPr/>
        </p:nvPicPr>
        <p:blipFill>
          <a:blip r:embed="rId2"/>
          <a:stretch/>
        </p:blipFill>
        <p:spPr>
          <a:xfrm>
            <a:off x="-36360" y="-212760"/>
            <a:ext cx="835812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3214800" y="2857680"/>
            <a:ext cx="7172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938 -0.01251 C 0.54028 -0.02964 0.5526 -0.01737 0.525 -0.05417 C 0.5158 -0.06644 0.5033 -0.07478 0.49375 -0.08751 C 0.47292 -0.05973 0.49462 -0.09329 0.48125 -0.05417 C 0.47813 -0.04515 0.47292 -0.03751 0.46875 -0.02917 C 0.46667 -0.02501 0.4625 -0.01667 0.4625 -0.01667 C 0.45938 -0.02084 0.4559 -0.02454 0.45313 -0.02917 C 0.44844 -0.03704 0.44688 -0.04862 0.44063 -0.05417 C 0.42743 -0.06598 0.43455 -0.06019 0.41875 -0.07084 C 0.40816 -0.04283 0.40903 -0.00672 0.38438 0.00416 C 0.38229 -0.0014 0.38142 -0.00811 0.37813 -0.01251 C 0.37587 -0.01552 0.37101 -0.01366 0.36875 -0.01667 C 0.34948 -0.04237 0.37517 -0.02778 0.35313 -0.03751 C 0.33507 -0.0294 0.34097 -0.02454 0.33438 -0.00417 C 0.33021 0.00879 0.32708 0.00925 0.31875 0.01666 C 0.31302 0.00902 0.30573 0.00347 0.3 -0.00417 C 0.28299 -0.02686 0.29913 -0.01714 0.28125 -0.02501 C 0.27882 -0.03473 0.27865 -0.04353 0.26875 -0.04584 C 0.26545 -0.04653 0.2625 -0.04306 0.25938 -0.04167 C 0.24444 -0.01181 0.25226 -0.02385 0.2375 -0.00417 C 0.23177 -0.01181 0.2276 -0.02153 0.22188 -0.02917 C 0.21615 -0.03681 0.20885 -0.04237 0.20313 -0.05001 C 0.19792 -0.04723 0.19201 -0.04607 0.1875 -0.04167 C 0.18438 -0.03866 0.18368 -0.03311 0.18125 -0.02917 C 0.17847 -0.02454 0.175 -0.02084 0.17188 -0.01667 C 0.1566 -0.02177 0.15208 -0.02084 0.14688 -0.04167 C 0.14184 -0.03172 0.1349 -0.02339 0.13125 -0.01251 C 0.12361 0.01041 0.13472 0.00717 0.11875 0.02499 C 0.11615 0.02777 0.1125 0.02777 0.10938 0.02916 C 0.10417 0.02499 0.09844 0.02198 0.09375 0.01666 C 0.09097 0.01342 0.0901 0.00763 0.0875 0.00416 C 0.0849 0.00069 0.08125 -0.0014 0.07813 -0.00417 C 0.075 -0.0014 0.07118 0.00022 0.06875 0.00416 C 0.05955 0.01897 0.06458 0.02129 0.05938 0.03749 C 0.05781 0.04212 0.05521 0.04583 0.05313 0.04999 C 0.04844 0.03101 0.04358 0.02476 0.03125 0.01249 C 0.02917 0.01666 0.0276 0.02152 0.025 0.02499 C 0.0092 0.04606 0.01181 0.02083 0.00625 0.00833 C 0.00469 0.00485 0.00208 0.00277 0 -6.66667E-006 E">
                                      <p:cBhvr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67436" t="25352" r="3501" b="413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 rot="1668600">
            <a:off x="4329000" y="-880560"/>
            <a:ext cx="5397480" cy="48877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0" descr=""/>
          <p:cNvPicPr/>
          <p:nvPr/>
        </p:nvPicPr>
        <p:blipFill>
          <a:blip r:embed="rId3"/>
          <a:stretch/>
        </p:blipFill>
        <p:spPr>
          <a:xfrm>
            <a:off x="79200" y="6480"/>
            <a:ext cx="6059520" cy="53830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2" descr=""/>
          <p:cNvPicPr/>
          <p:nvPr/>
        </p:nvPicPr>
        <p:blipFill>
          <a:blip r:embed="rId4"/>
          <a:stretch/>
        </p:blipFill>
        <p:spPr>
          <a:xfrm>
            <a:off x="1792440" y="5145120"/>
            <a:ext cx="73213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32084E-006 C 0.00364 -0.01643 0.00989 -0.01758 0.01979 -0.02383 C 0.03316 -0.0229 0.04496 -0.0229 0.05729 -0.01712 C 0.06198 -0.01157 0.06771 -0.00879 0.07222 -0.00278 C 0.07343 0.0037 0.07604 0.00555 0.07916 0.01041 C 0.08281 0.01642 0.08541 0.02591 0.08802 0.03285 C 0.08871 0.03863 0.08941 0.04441 0.09097 0.04996 C 0.09236 0.06037 0.09479 0.07009 0.096 0.0805 C 0.09548 0.09669 0.09583 0.11219 0.09305 0.12792 C 0.09062 0.14157 0.08402 0.15545 0.07916 0.16747 C 0.07552 0.17626 0.07361 0.18667 0.06823 0.19384 C 0.06684 0.20102 0.06545 0.20009 0.06024 0.20171 C 0.04375 0.20125 0.02534 0.20934 0.01076 0.19916 C 0.00434 0.19477 0.01163 0.19755 0.00382 0.19523 C 0.00104 0.19315 -0.00226 0.19338 -0.00504 0.1913 C -0.00608 0.19037 -0.00625 0.18829 -0.00695 0.18714 C -0.01146 0.17997 -0.00851 0.18598 -0.01302 0.18066 C -0.01511 0.17811 -0.01893 0.17279 -0.01893 0.17279 C -0.0283 0.14689 -0.01598 0.1152 -0.02882 0.09091 C -0.03073 0.07957 -0.03212 0.0687 -0.03872 0.0606 C -0.04167 0.05043 -0.04809 0.04094 -0.05452 0.03423 C -0.05747 0.03123 -0.05834 0.02776 -0.06146 0.02498 C -0.07188 0.02614 -0.08403 0.02683 -0.09219 0.03678 C -0.09445 0.04557 -0.1033 0.05898 -0.10799 0.06592 C -0.1092 0.07032 -0.11077 0.07471 -0.11198 0.07911 C -0.11146 0.096 -0.11302 0.11867 -0.10313 0.13185 C -0.10191 0.13786 -0.09514 0.15198 -0.09115 0.15568 C -0.0882 0.16215 -0.08386 0.17187 -0.0783 0.17395 C -0.07483 0.18344 -0.07865 0.1765 -0.0724 0.18066 C -0.06146 0.18806 -0.07153 0.18482 -0.06146 0.18714 C -0.05348 0.19269 -0.04566 0.19408 -0.03664 0.19523 C -0.03004 0.19408 -0.02344 0.19269 -0.01684 0.1913 C -0.0132 0.19061 -0.00608 0.18714 -0.00608 0.18714 C 2.22221999999963E-006 0.17927 -0.00313 0.18205 0.00295 0.17811 C 0.0085 0.17048 0.00555 0.17233 0.01076 0.17002 C 0.01267 0.16285 0.01771 0.16053 0.02274 0.15822 C 0.0243 0.15591 0.02691 0.15452 0.0276 0.15151 C 0.02795 0.15012 0.02795 0.14851 0.02864 0.14758 C 0.02968 0.14619 0.03125 0.14596 0.03264 0.14504 C 0.03368 0.14249 0.0342 0.13948 0.03559 0.13717 C 0.03767 0.1337 0.0408 0.13162 0.04253 0.12792 C 0.0467 0.11843 0.04444 0.12329 0.04948 0.11334 C 0.05069 0.10455 0.04982 0.1071 0.05434 0.09762 C 0.0559 0.09438 0.05937 0.08836 0.05937 0.08836 C 0.0618 0.07356 0.05764 0.096 0.06423 0.07518 C 0.06666 0.06754 0.06823 0.0606 0.07014 0.05274 C 0.06961 0.02244 0.06909 -0.00486 0.06527 -0.03447 C 0.06423 -0.04303 0.05868 -0.04951 0.05538 -0.05691 C 0.04531 -0.07981 0.03593 -0.10201 0.0158 -0.11081 C 0.01059 -0.11566 0.00503 -0.11636 -0.00104 -0.11751 C -0.02379 -0.11659 -0.04341 -0.1152 -0.06545 -0.11219 C -0.07431 -0.10942 -0.08247 -0.10502 -0.09115 -0.10155 C -0.09289 -0.09947 -0.09427 -0.09693 -0.09618 -0.09508 C -0.0974 -0.09392 -0.09896 -0.09392 -0.1 -0.09253 C -0.10209 -0.08975 -0.10295 -0.08605 -0.10504 -0.08328 C -0.10729 -0.07495 -0.1092 -0.06408 -0.11302 -0.05691 C -0.11528 -0.03563 -0.11945 -0.01481 -0.12188 0.00647 C -0.12188 0.00786 -0.12309 0.05436 -0.11893 0.06986 C -0.11789 0.07379 -0.11129 0.07656 -0.10903 0.07772 C -0.10504 0.08304 -0.09861 0.08536 -0.09323 0.08697 C -0.08351 0.09322 -0.07327 0.09692 -0.0625 0.09877 C -0.05486 0.10155 -0.0474 0.09831 -0.03976 0.09623 C -0.03768 0.09415 -0.0349 0.09322 -0.03282 0.09091 C -0.03195 0.08998 -0.0316 0.08813 -0.03073 0.08697 C -0.02778 0.08327 -0.02379 0.08027 -0.02084 0.07633 C -0.01684 0.07101 -0.01424 0.06315 -0.00903 0.0606 C -0.00556 0.05413 -0.00782 0.05783 -0.00209 0.04996 C -0.00035 0.04765 0.00191 0.0421 0.00191 0.0421 C 0.00451 0.02914 0.00069 0.01318 2.22222E-006 -1.32084E-006 Z">
                                      <p:cBhvr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5:01:29Z</dcterms:created>
  <dc:creator>Philippe</dc:creator>
  <dc:description/>
  <dc:language>en-US</dc:language>
  <cp:lastModifiedBy>Philippe</cp:lastModifiedBy>
  <dcterms:modified xsi:type="dcterms:W3CDTF">2008-10-21T17:34:09Z</dcterms:modified>
  <cp:revision>2</cp:revision>
  <dc:subject/>
  <dc:title>Slide 1</dc:title>
</cp:coreProperties>
</file>