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0A8B-0853-4F41-AAE9-036A9ADBDB94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BAB9-0148-4144-9593-588160AE29B1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6719-5E02-4904-8644-85D62DBA7BFF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8DEC-7A54-4E1D-AF55-D52BDABAC8E1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95A-C60A-4DA1-823C-0A4D2410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8835-8B90-4805-8A14-B192302C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367-8D71-4CAE-B216-78C2E054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2C2B-4A99-4E34-9C38-49F13286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6CCF-CFC4-4BD9-B8A1-46AF561C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423-5EB5-463E-9D7E-E9BBCCCA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9A9A-148E-4478-98F9-FB412E49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DB04-B00B-475A-A690-1EA60AFB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D237-447A-4A8F-A54B-AFF76F6B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3DDD-7DA3-4165-9D7C-7279908E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BA90-95EF-4256-9D1B-5E15F432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E9D1-EFB8-4702-8310-4C3DABA8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EB68-321E-4A12-840C-A4A5F58F9652}" type="slidenum">
              <a:rPr b="0" lang="fr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5" descr="cado.jpg"/>
          <p:cNvPicPr/>
          <p:nvPr/>
        </p:nvPicPr>
        <p:blipFill>
          <a:blip r:embed="rId1"/>
          <a:srcRect l="0" t="0" r="13769" b="0"/>
          <a:stretch/>
        </p:blipFill>
        <p:spPr>
          <a:xfrm>
            <a:off x="3714840" y="2643120"/>
            <a:ext cx="5429160" cy="4214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salaire 5 copy.jpg"/>
          <p:cNvPicPr/>
          <p:nvPr/>
        </p:nvPicPr>
        <p:blipFill>
          <a:blip r:embed="rId2"/>
          <a:stretch/>
        </p:blipFill>
        <p:spPr>
          <a:xfrm>
            <a:off x="928800" y="0"/>
            <a:ext cx="3047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Heart 7"/>
          <p:cNvSpPr/>
          <p:nvPr/>
        </p:nvSpPr>
        <p:spPr>
          <a:xfrm rot="630600">
            <a:off x="1787040" y="-68400"/>
            <a:ext cx="9017280" cy="7452000"/>
          </a:xfrm>
          <a:prstGeom prst="pi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258440" y="2143080"/>
            <a:ext cx="48229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6600" spc="-1" strike="noStrike">
                <a:solidFill>
                  <a:srgbClr val="ffffff"/>
                </a:solidFill>
                <a:latin typeface="Calibri"/>
              </a:rPr>
              <a:t>Le salaire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6600" spc="-1" strike="noStrike">
                <a:solidFill>
                  <a:srgbClr val="ffffff"/>
                </a:solidFill>
                <a:latin typeface="Calibri"/>
              </a:rPr>
              <a:t>du péché,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6600" spc="-1" strike="noStrike">
                <a:solidFill>
                  <a:srgbClr val="ffffff"/>
                </a:solidFill>
                <a:latin typeface="Calibri"/>
              </a:rPr>
              <a:t>c’est la mort,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9" descr="salaire 5 copy.jpg"/>
          <p:cNvPicPr/>
          <p:nvPr/>
        </p:nvPicPr>
        <p:blipFill>
          <a:blip r:embed="rId1"/>
          <a:srcRect l="0" t="37239" r="0" b="0"/>
          <a:stretch/>
        </p:blipFill>
        <p:spPr>
          <a:xfrm>
            <a:off x="0" y="0"/>
            <a:ext cx="357192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Heart 8"/>
          <p:cNvSpPr/>
          <p:nvPr/>
        </p:nvSpPr>
        <p:spPr>
          <a:xfrm rot="630600">
            <a:off x="1787040" y="-68400"/>
            <a:ext cx="9017280" cy="7452000"/>
          </a:xfrm>
          <a:prstGeom prst="pi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995040" y="142920"/>
            <a:ext cx="7174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6600" spc="-1" strike="noStrike">
                <a:solidFill>
                  <a:srgbClr val="000000"/>
                </a:solidFill>
                <a:latin typeface="Calibri"/>
              </a:rPr>
              <a:t>mais le don gratuit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6600" spc="-1" strike="noStrike">
                <a:solidFill>
                  <a:srgbClr val="000000"/>
                </a:solidFill>
                <a:latin typeface="Calibri"/>
              </a:rPr>
              <a:t>de Dieu,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6600" spc="-1" strike="noStrike">
                <a:solidFill>
                  <a:srgbClr val="000000"/>
                </a:solidFill>
                <a:latin typeface="Calibri"/>
              </a:rPr>
              <a:t>c’est la vie éternelle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cado.jpg"/>
          <p:cNvPicPr/>
          <p:nvPr/>
        </p:nvPicPr>
        <p:blipFill>
          <a:blip r:embed="rId1"/>
          <a:srcRect l="0" t="0" r="45551" b="54247"/>
          <a:stretch/>
        </p:blipFill>
        <p:spPr>
          <a:xfrm>
            <a:off x="0" y="171468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Heart 9"/>
          <p:cNvSpPr/>
          <p:nvPr/>
        </p:nvSpPr>
        <p:spPr>
          <a:xfrm rot="630600">
            <a:off x="1787040" y="-68400"/>
            <a:ext cx="9017280" cy="7452000"/>
          </a:xfrm>
          <a:prstGeom prst="pi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557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Rectangle 10" descr=""/>
          <p:cNvPicPr/>
          <p:nvPr/>
        </p:nvPicPr>
        <p:blipFill>
          <a:blip r:embed="rId1"/>
          <a:stretch/>
        </p:blipFill>
        <p:spPr>
          <a:xfrm>
            <a:off x="85680" y="360360"/>
            <a:ext cx="6259680" cy="538812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5" descr=""/>
          <p:cNvPicPr/>
          <p:nvPr/>
        </p:nvPicPr>
        <p:blipFill>
          <a:blip r:embed="rId2"/>
          <a:stretch/>
        </p:blipFill>
        <p:spPr>
          <a:xfrm>
            <a:off x="109440" y="360360"/>
            <a:ext cx="6261120" cy="538812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15"/>
          <p:cNvGrpSpPr/>
          <p:nvPr/>
        </p:nvGrpSpPr>
        <p:grpSpPr>
          <a:xfrm>
            <a:off x="5483160" y="2044080"/>
            <a:ext cx="4459680" cy="6325920"/>
            <a:chOff x="5483160" y="2044080"/>
            <a:chExt cx="4459680" cy="6325920"/>
          </a:xfrm>
        </p:grpSpPr>
        <p:grpSp>
          <p:nvGrpSpPr>
            <p:cNvPr id="64" name="Group 6"/>
            <p:cNvGrpSpPr/>
            <p:nvPr/>
          </p:nvGrpSpPr>
          <p:grpSpPr>
            <a:xfrm>
              <a:off x="5483160" y="2044080"/>
              <a:ext cx="4453200" cy="6325920"/>
              <a:chOff x="5483160" y="2044080"/>
              <a:chExt cx="4453200" cy="6325920"/>
            </a:xfrm>
          </p:grpSpPr>
          <p:sp>
            <p:nvSpPr>
              <p:cNvPr id="65" name="Rectangle 7"/>
              <p:cNvSpPr/>
              <p:nvPr/>
            </p:nvSpPr>
            <p:spPr>
              <a:xfrm rot="21063600">
                <a:off x="5536440" y="3366000"/>
                <a:ext cx="4346280" cy="1027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Rectangle 8"/>
              <p:cNvSpPr/>
              <p:nvPr/>
            </p:nvSpPr>
            <p:spPr>
              <a:xfrm rot="4863600">
                <a:off x="4797000" y="4693320"/>
                <a:ext cx="6242040" cy="1027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 rot="21064800">
              <a:off x="5543280" y="3340800"/>
              <a:ext cx="4345200" cy="103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07:24:13Z</dcterms:created>
  <dc:creator>Philippe</dc:creator>
  <dc:description/>
  <dc:language>en-US</dc:language>
  <cp:lastModifiedBy>Philippe</cp:lastModifiedBy>
  <dcterms:modified xsi:type="dcterms:W3CDTF">2008-10-21T17:36:01Z</dcterms:modified>
  <cp:revision>3</cp:revision>
  <dc:subject/>
  <dc:title>Slide 1</dc:title>
</cp:coreProperties>
</file>