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ACE-CF51-4FA2-B5F0-84A62595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E8D-D044-4312-96B8-0386F3D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D5A-6BE9-4B69-AF38-AA018EB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F33-28B2-43B2-BDC6-0053DB1A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E7D-122F-487F-8156-E69AEC0C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895-AA5B-4A6F-A5D2-9DC4DE51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49D-1DA1-4460-A3FA-AF4A518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806-3081-42A1-91A5-2503ECA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A88-4123-4A92-85D8-2C3800D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F24-DC8D-418B-A508-1D2AAE1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9C7-BC3A-459E-AE81-0FD0E0A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B69-D816-4CBB-A4BF-8519107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5C5A-F3FB-4CE7-BF09-E311BCA2611C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12"/>
          <p:cNvSpPr/>
          <p:nvPr/>
        </p:nvSpPr>
        <p:spPr>
          <a:xfrm>
            <a:off x="1000080" y="-1857240"/>
            <a:ext cx="7286760" cy="1035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7" descr="enfants.jpg"/>
          <p:cNvPicPr/>
          <p:nvPr/>
        </p:nvPicPr>
        <p:blipFill>
          <a:blip r:embed="rId1"/>
          <a:stretch/>
        </p:blipFill>
        <p:spPr>
          <a:xfrm>
            <a:off x="1785960" y="0"/>
            <a:ext cx="53402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enfants.jpg"/>
          <p:cNvPicPr/>
          <p:nvPr/>
        </p:nvPicPr>
        <p:blipFill>
          <a:blip r:embed="rId2"/>
          <a:stretch/>
        </p:blipFill>
        <p:spPr>
          <a:xfrm>
            <a:off x="1779480" y="1420920"/>
            <a:ext cx="1938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14"/>
          <p:cNvSpPr/>
          <p:nvPr/>
        </p:nvSpPr>
        <p:spPr>
          <a:xfrm>
            <a:off x="2643120" y="-257184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2857680" y="2143080"/>
            <a:ext cx="1021536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-5214960" y="-4572000"/>
            <a:ext cx="9072720" cy="1885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18868" r="64327" b="0"/>
          <a:stretch/>
        </p:blipFill>
        <p:spPr>
          <a:xfrm>
            <a:off x="142920" y="214200"/>
            <a:ext cx="3143160" cy="88678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7" descr=""/>
          <p:cNvPicPr/>
          <p:nvPr/>
        </p:nvPicPr>
        <p:blipFill>
          <a:blip r:embed="rId2"/>
          <a:stretch/>
        </p:blipFill>
        <p:spPr>
          <a:xfrm>
            <a:off x="2852640" y="328680"/>
            <a:ext cx="6724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4"/>
          <p:cNvSpPr/>
          <p:nvPr/>
        </p:nvSpPr>
        <p:spPr>
          <a:xfrm>
            <a:off x="2643120" y="-257184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2857680" y="2143080"/>
            <a:ext cx="1021536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-5214960" y="-4572000"/>
            <a:ext cx="9072720" cy="1885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18868" r="64327" b="0"/>
          <a:stretch/>
        </p:blipFill>
        <p:spPr>
          <a:xfrm>
            <a:off x="142920" y="214200"/>
            <a:ext cx="3143160" cy="886788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9" descr=""/>
          <p:cNvPicPr/>
          <p:nvPr/>
        </p:nvPicPr>
        <p:blipFill>
          <a:blip r:embed="rId2"/>
          <a:stretch/>
        </p:blipFill>
        <p:spPr>
          <a:xfrm>
            <a:off x="3790800" y="646200"/>
            <a:ext cx="6218280" cy="65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1000080" y="-1857240"/>
            <a:ext cx="7286760" cy="1035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-3351" r="279" b="0"/>
          <a:stretch/>
        </p:blipFill>
        <p:spPr>
          <a:xfrm>
            <a:off x="195264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Heart 18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Heart 19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Heart 21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Heart 22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rt 23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Heart 24"/>
          <p:cNvSpPr/>
          <p:nvPr/>
        </p:nvSpPr>
        <p:spPr>
          <a:xfrm rot="261600">
            <a:off x="2525400" y="3392640"/>
            <a:ext cx="928800" cy="7142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Heart 25"/>
          <p:cNvSpPr/>
          <p:nvPr/>
        </p:nvSpPr>
        <p:spPr>
          <a:xfrm rot="261600">
            <a:off x="2525400" y="3392640"/>
            <a:ext cx="928800" cy="7142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rt 26"/>
          <p:cNvSpPr/>
          <p:nvPr/>
        </p:nvSpPr>
        <p:spPr>
          <a:xfrm rot="261600">
            <a:off x="2525400" y="3392640"/>
            <a:ext cx="928800" cy="7142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27"/>
          <p:cNvSpPr/>
          <p:nvPr/>
        </p:nvSpPr>
        <p:spPr>
          <a:xfrm rot="261600">
            <a:off x="2525400" y="3392640"/>
            <a:ext cx="928800" cy="7142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Heart 28"/>
          <p:cNvSpPr/>
          <p:nvPr/>
        </p:nvSpPr>
        <p:spPr>
          <a:xfrm rot="261600">
            <a:off x="2525400" y="3392640"/>
            <a:ext cx="928800" cy="7142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rt 29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rt 30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Heart 31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rt 32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Heart 33"/>
          <p:cNvSpPr/>
          <p:nvPr/>
        </p:nvSpPr>
        <p:spPr>
          <a:xfrm rot="261600">
            <a:off x="2525400" y="3321000"/>
            <a:ext cx="928800" cy="71460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68292E-006 C 0.0066 -0.0372 0.0283 -0.0684 0.04097 -0.10237 C 0.05295 -0.13426 0.06441 -0.16038 0.07934 -0.19112 C 0.08212 -0.19666 0.08368 -0.20383 0.08715 -0.20822 C 0.09896 -0.22416 0.11024 -0.24173 0.12049 -0.25929 C 0.14115 -0.29511 0.16094 -0.33556 0.18715 -0.36537 C 0.19879 -0.37808 0.21215 -0.38825 0.22292 -0.40281 C 0.22899 -0.4109 0.23438 -0.41945 0.24097 -0.42661 C 0.24809 -0.43424 0.25677 -0.43956 0.26406 -0.44718 C 0.27136 -0.45435 0.27709 -0.46428 0.28455 -0.47122 C 0.32882 -0.51282 0.28646 -0.46521 0.33073 -0.50172 C 0.33733 -0.5075 0.34219 -0.51651 0.34861 -0.52206 C 0.38021 -0.55072 0.41337 -0.57198 0.44601 -0.59717 C 0.47865 -0.62259 0.51059 -0.65125 0.54358 -0.67575 C 0.56302 -0.69031 0.58507 -0.69747 0.60504 -0.70995 C 0.63108 -0.72636 0.6559 -0.74 0.68455 -0.74392 C 0.74427 -0.76426 0.80799 -0.76449 0.8691 -0.76449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60111E-006 C -0.00086 -0.02495 -0.00104 -0.04991 -0.0026 -0.07487 C -0.00364 -0.0929 -0.01128 -0.11277 -0.01545 -0.12964 C -0.01961 -0.14628 -0.02135 -0.16408 -0.02569 -0.18072 C -0.02916 -0.23041 -0.04062 -0.27801 -0.04357 -0.32747 C -0.04687 -0.38455 -0.0552 -0.43933 -0.06406 -0.49479 C -0.0684 -0.5216 -0.07014 -0.55049 -0.07691 -0.57684 C -0.08854 -0.62167 -0.09392 -0.62375 -0.10764 -0.66558 C -0.11684 -0.69378 -0.12656 -0.72128 -0.13854 -0.74739 C -0.14323 -0.77374 -0.13698 -0.74924 -0.14878 -0.7712 C -0.15694 -0.78622 -0.15642 -0.79754 -0.16927 -0.80887 C -0.18663 -0.86803 -0.16423 -0.79523 -0.17951 -0.83614 C -0.18836 -0.85971 -0.18038 -0.84862 -0.19236 -0.87358 C -0.19531 -0.87982 -0.19965 -0.88444 -0.2026 -0.89068 C -0.20573 -0.89715 -0.20694 -0.90501 -0.21024 -0.91125 C -0.21302 -0.91656 -0.2177 -0.91957 -0.22048 -0.92488 C -0.22812 -0.93898 -0.23385 -0.9547 -0.24097 -0.96926 C -0.24305 -0.97342 -0.2434 -0.97919 -0.24618 -0.98289 C -0.24809 -0.98543 -0.25121 -0.9852 -0.25382 -0.98636 C -0.26649 -1.00323 -0.27656 -1.0127 -0.28975 -1.02726 C -0.29948 -1.03789 -0.30816 -1.05084 -0.31788 -1.06147 C -0.3375 -1.08296 -0.35885 -1.09891 -0.37691 -1.12294 E">
                                      <p:cBhvr>
                                        <p:cTn id="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96071E-007 C -0.00816 -0.01664 -0.01459 -0.03443 -0.0231 -0.05107 C -0.03438 -0.07395 -0.02657 -0.05616 -0.03837 -0.07511 C -0.04549 -0.0862 -0.04827 -0.09082 -0.05886 -0.09544 C -0.08924 -0.13011 -0.12657 -0.15253 -0.15886 -0.18419 C -0.18889 -0.21354 -0.21875 -0.24312 -0.24862 -0.27293 C -0.30139 -0.32539 -0.27379 -0.3002 -0.32049 -0.35844 C -0.36337 -0.41206 -0.40695 -0.45967 -0.45626 -0.50173 C -0.50209 -0.54102 -0.44584 -0.49919 -0.4948 -0.529 C -0.49931 -0.53154 -0.50278 -0.53732 -0.50764 -0.53894 C -0.56146 -0.5602 -0.6198 -0.5528 -0.67431 -0.5528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68292E-006 C 0.0066 -0.0372 0.0283 -0.0684 0.04097 -0.10237 C 0.05295 -0.13426 0.06441 -0.16038 0.07934 -0.19112 C 0.08212 -0.19666 0.08368 -0.20383 0.08715 -0.20822 C 0.09896 -0.22416 0.11024 -0.24173 0.12049 -0.25929 C 0.14115 -0.29511 0.16094 -0.33556 0.18715 -0.36537 C 0.19879 -0.37808 0.21215 -0.38825 0.22292 -0.40281 C 0.22899 -0.4109 0.23438 -0.41945 0.24097 -0.42661 C 0.24809 -0.43424 0.25677 -0.43956 0.26406 -0.44718 C 0.27136 -0.45435 0.27709 -0.46428 0.28455 -0.47122 C 0.32882 -0.51282 0.28646 -0.46521 0.33073 -0.50172 C 0.33733 -0.5075 0.34219 -0.51651 0.34861 -0.52206 C 0.38021 -0.55072 0.41337 -0.57198 0.44601 -0.59717 C 0.47865 -0.62259 0.51059 -0.65125 0.54358 -0.67575 C 0.56302 -0.69031 0.58507 -0.69747 0.60504 -0.70995 C 0.63108 -0.72636 0.6559 -0.74 0.68455 -0.74392 C 0.74427 -0.76426 0.80799 -0.76449 0.8691 -0.76449 E">
                                      <p:cBhvr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60111E-006 C -0.00086 -0.02495 -0.00104 -0.04991 -0.0026 -0.07487 C -0.00364 -0.0929 -0.01128 -0.11277 -0.01545 -0.12964 C -0.01961 -0.14628 -0.02135 -0.16408 -0.02569 -0.18072 C -0.02916 -0.23041 -0.04062 -0.27801 -0.04357 -0.32747 C -0.04687 -0.38455 -0.0552 -0.43933 -0.06406 -0.49479 C -0.0684 -0.5216 -0.07014 -0.55049 -0.07691 -0.57684 C -0.08854 -0.62167 -0.09392 -0.62375 -0.10764 -0.66558 C -0.11684 -0.69378 -0.12656 -0.72128 -0.13854 -0.74739 C -0.14323 -0.77374 -0.13698 -0.74924 -0.14878 -0.7712 C -0.15694 -0.78622 -0.15642 -0.79754 -0.16927 -0.80887 C -0.18663 -0.86803 -0.16423 -0.79523 -0.17951 -0.83614 C -0.18836 -0.85971 -0.18038 -0.84862 -0.19236 -0.87358 C -0.19531 -0.87982 -0.19965 -0.88444 -0.2026 -0.89068 C -0.20573 -0.89715 -0.20694 -0.90501 -0.21024 -0.91125 C -0.21302 -0.91656 -0.2177 -0.91957 -0.22048 -0.92488 C -0.22812 -0.93898 -0.23385 -0.9547 -0.24097 -0.96926 C -0.24305 -0.97342 -0.2434 -0.97919 -0.24618 -0.98289 C -0.24809 -0.98543 -0.25121 -0.9852 -0.25382 -0.98636 C -0.26649 -1.00323 -0.27656 -1.0127 -0.28975 -1.02726 C -0.29948 -1.03789 -0.30816 -1.05084 -0.31788 -1.06147 C -0.3375 -1.08296 -0.35885 -1.09891 -0.37691 -1.12294 E">
                                      <p:cBhvr>
                                        <p:cTn id="2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96071E-007 C -0.00816 -0.01664 -0.01459 -0.03443 -0.0231 -0.05107 C -0.03438 -0.07395 -0.02657 -0.05616 -0.03837 -0.07511 C -0.04549 -0.0862 -0.04827 -0.09082 -0.05886 -0.09544 C -0.08924 -0.13011 -0.12657 -0.15253 -0.15886 -0.18419 C -0.18889 -0.21354 -0.21875 -0.24312 -0.24862 -0.27293 C -0.30139 -0.32539 -0.27379 -0.3002 -0.32049 -0.35844 C -0.36337 -0.41206 -0.40695 -0.45967 -0.45626 -0.50173 C -0.50209 -0.54102 -0.44584 -0.49919 -0.4948 -0.529 C -0.49931 -0.53154 -0.50278 -0.53732 -0.50764 -0.53894 C -0.56146 -0.5602 -0.6198 -0.5528 -0.67431 -0.5528 E">
                                      <p:cBhvr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68292E-006 C 0.0066 -0.0372 0.0283 -0.0684 0.04097 -0.10237 C 0.05295 -0.13426 0.06441 -0.16038 0.07934 -0.19112 C 0.08212 -0.19666 0.08368 -0.20383 0.08715 -0.20822 C 0.09896 -0.22416 0.11024 -0.24173 0.12049 -0.25929 C 0.14115 -0.29511 0.16094 -0.33556 0.18715 -0.36537 C 0.19879 -0.37808 0.21215 -0.38825 0.22292 -0.40281 C 0.22899 -0.4109 0.23438 -0.41945 0.24097 -0.42661 C 0.24809 -0.43424 0.25677 -0.43956 0.26406 -0.44718 C 0.27136 -0.45435 0.27709 -0.46428 0.28455 -0.47122 C 0.32882 -0.51282 0.28646 -0.46521 0.33073 -0.50172 C 0.33733 -0.5075 0.34219 -0.51651 0.34861 -0.52206 C 0.38021 -0.55072 0.41337 -0.57198 0.44601 -0.59717 C 0.47865 -0.62259 0.51059 -0.65125 0.54358 -0.67575 C 0.56302 -0.69031 0.58507 -0.69747 0.60504 -0.70995 C 0.63108 -0.72636 0.6559 -0.74 0.68455 -0.74392 C 0.74427 -0.76426 0.80799 -0.76449 0.8691 -0.76449 E">
                                      <p:cBhvr>
                                        <p:cTn id="3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60111E-006 C -0.00086 -0.02495 -0.00104 -0.04991 -0.0026 -0.07487 C -0.00364 -0.0929 -0.01128 -0.11277 -0.01545 -0.12964 C -0.01961 -0.14628 -0.02135 -0.16408 -0.02569 -0.18072 C -0.02916 -0.23041 -0.04062 -0.27801 -0.04357 -0.32747 C -0.04687 -0.38455 -0.0552 -0.43933 -0.06406 -0.49479 C -0.0684 -0.5216 -0.07014 -0.55049 -0.07691 -0.57684 C -0.08854 -0.62167 -0.09392 -0.62375 -0.10764 -0.66558 C -0.11684 -0.69378 -0.12656 -0.72128 -0.13854 -0.74739 C -0.14323 -0.77374 -0.13698 -0.74924 -0.14878 -0.7712 C -0.15694 -0.78622 -0.15642 -0.79754 -0.16927 -0.80887 C -0.18663 -0.86803 -0.16423 -0.79523 -0.17951 -0.83614 C -0.18836 -0.85971 -0.18038 -0.84862 -0.19236 -0.87358 C -0.19531 -0.87982 -0.19965 -0.88444 -0.2026 -0.89068 C -0.20573 -0.89715 -0.20694 -0.90501 -0.21024 -0.91125 C -0.21302 -0.91656 -0.2177 -0.91957 -0.22048 -0.92488 C -0.22812 -0.93898 -0.23385 -0.9547 -0.24097 -0.96926 C -0.24305 -0.97342 -0.2434 -0.97919 -0.24618 -0.98289 C -0.24809 -0.98543 -0.25121 -0.9852 -0.25382 -0.98636 C -0.26649 -1.00323 -0.27656 -1.0127 -0.28975 -1.02726 C -0.29948 -1.03789 -0.30816 -1.05084 -0.31788 -1.06147 C -0.3375 -1.08296 -0.35885 -1.09891 -0.37691 -1.12294 E">
                                      <p:cBhvr>
                                        <p:cTn id="4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96071E-007 C -0.00816 -0.01664 -0.01459 -0.03443 -0.0231 -0.05107 C -0.03438 -0.07395 -0.02657 -0.05616 -0.03837 -0.07511 C -0.04549 -0.0862 -0.04827 -0.09082 -0.05886 -0.09544 C -0.08924 -0.13011 -0.12657 -0.15253 -0.15886 -0.18419 C -0.18889 -0.21354 -0.21875 -0.24312 -0.24862 -0.27293 C -0.30139 -0.32539 -0.27379 -0.3002 -0.32049 -0.35844 C -0.36337 -0.41206 -0.40695 -0.45967 -0.45626 -0.50173 C -0.50209 -0.54102 -0.44584 -0.49919 -0.4948 -0.529 C -0.49931 -0.53154 -0.50278 -0.53732 -0.50764 -0.53894 C -0.56146 -0.5602 -0.6198 -0.5528 -0.67431 -0.5528 E">
                                      <p:cBhvr>
                                        <p:cTn id="4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5:01:29Z</dcterms:created>
  <dc:creator>Philippe</dc:creator>
  <dc:description/>
  <dc:language>en-US</dc:language>
  <cp:lastModifiedBy>Philippe</cp:lastModifiedBy>
  <dcterms:modified xsi:type="dcterms:W3CDTF">2009-08-29T18:40:00Z</dcterms:modified>
  <cp:revision>11</cp:revision>
  <dc:subject/>
  <dc:title>Slide 1</dc:title>
</cp:coreProperties>
</file>