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7B7-EE39-4741-8EB1-01F2FB7D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328-C29F-4DCF-BE04-22F8156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7BA-EDC3-4306-9405-410CFE3F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D1D-B908-488F-8A4C-49594D41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6837-1E26-4FC6-BC8F-B3A86F77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13F-F6EF-4E24-BCAC-A288655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110-7C02-4C12-976E-B74436B0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2638-7883-46BD-889A-48DAF5D1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590E-F09C-4D26-8CC1-3B9B0990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5371-F9DF-4169-AD2A-48F6A271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318E-013B-4268-AEC0-0A1EC94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7DC-7007-43EF-A58B-1063E179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2BEB-FA26-4EE8-884A-F75C9DDB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80E9-CAB4-4196-A63B-4E4D817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A592-F048-4766-82EE-32AC67A2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7D5B-6586-432C-A69A-0F39A244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6930-4F77-4A15-B6C7-E89A07AB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C803-AEBF-4978-818A-4A326459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FE33-312D-4248-8F64-7DDEBF5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4B31-6A51-457E-B92F-FA0EF99A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88BB-4A9A-4D61-A73E-D74DC50E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0B70-CAAB-4E5D-B23E-0E57156E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DA3-C802-4EC7-A2F6-AA96E2C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361D-EA42-459B-A92D-75AAE281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C484-FA2B-408F-869A-F6CBBE8A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BEFA-F931-4953-9B51-7B2660A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A1A9-26F1-436E-AE34-3D60CB5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019C-360C-4434-B724-A7348F07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C37E-8270-4A41-A099-96D4DA41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67D7-296F-45D9-BAAF-F3802BFD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F611-F923-4C2F-B68F-061003F2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5BB2-D3C2-40CD-92EC-F3342511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B6E0-06A7-498B-AFD3-36E78E4D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570-9F42-45EA-8AAF-3A1C7ABA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6750-B227-4F9B-8F27-37578EE6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1556-67C0-4A7A-8A5C-F9F28C3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227F-93BB-42E5-B3D4-DF3E4E9C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CE62-5AEF-48B7-85EA-021B4D9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F2B0-4816-47AC-9CE1-8F13C2F2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363A9-4DAF-462A-AA97-8EFDDF90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E6B59-2A01-4184-B2CA-ABDCDC2E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E15F-5E32-4BEC-8EDF-81B0616B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A995-F4BD-4C66-ACF5-C9608B7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908D-16BB-4CFC-88EE-F89C115E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D72-B08F-4A15-83F0-8BF0B38B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C7F6-18AD-460E-B6CD-61D2B57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A22A-8EB2-4497-9A1A-4BB70AD0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AF776-F4D4-4561-B78B-9A494849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2C00F-B7A1-412A-B03E-00289067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56FF-710D-42D6-B65E-2DE76E4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1757-A968-4626-AEB6-820B22A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0460-9C5B-418E-BA9C-90CB6A5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991C7-7CB1-451E-8591-D8EAF60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60F42-1767-4570-AE27-2C5F841C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318B-0FF5-41D0-98F9-EE5B6C92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9B4-77FB-4E02-B733-51103C6C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642D-ECAF-4C09-8DF1-5FA423DC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785-D315-4CAA-A2B4-D269F9BD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838-F2B0-4CB5-848E-63A338C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9E1-E707-4DB6-B935-D120640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irelight content.png"/>
          <p:cNvPicPr/>
          <p:nvPr/>
        </p:nvPicPr>
        <p:blipFill>
          <a:blip r:embed="rId2"/>
          <a:srcRect l="10261" t="11519" r="6261" b="8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4B3B-396F-4648-9136-DB6326E17E4E}" type="slidenum">
              <a:rPr b="0" lang="fr-FR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irelight title.png"/>
          <p:cNvPicPr/>
          <p:nvPr/>
        </p:nvPicPr>
        <p:blipFill>
          <a:blip r:embed="rId2"/>
          <a:srcRect l="43434" t="21353" r="0" b="20415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59432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28600" y="57146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399-5BE1-4215-AD96-DC049E5F59BA}" type="slidenum">
              <a:rPr b="0" lang="fr-FR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Firelight section.png"/>
          <p:cNvPicPr/>
          <p:nvPr/>
        </p:nvPicPr>
        <p:blipFill>
          <a:blip r:embed="rId2"/>
          <a:srcRect l="7677" t="0" r="8564" b="31687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3E0-27F9-4B46-B162-000B874B3CB0}" type="slidenum">
              <a:rPr b="0" lang="fr-FR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9A7-0EDB-4D38-A258-676ACE5FB337}" type="slidenum">
              <a:rPr b="0" lang="fr-FR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A379-35F1-4145-9783-B03BC7A25E08}" type="slidenum">
              <a:rPr b="0" lang="fr-FR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7920" y="2971800"/>
            <a:ext cx="5715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212" name="Picture 3" descr="Papier Kraft"/>
          <p:cNvPicPr/>
          <p:nvPr/>
        </p:nvPicPr>
        <p:blipFill>
          <a:blip r:embed="rId1"/>
          <a:stretch/>
        </p:blipFill>
        <p:spPr>
          <a:xfrm>
            <a:off x="-285840" y="-22320"/>
            <a:ext cx="10515600" cy="6880320"/>
          </a:xfrm>
          <a:prstGeom prst="rect">
            <a:avLst/>
          </a:prstGeom>
          <a:ln w="0">
            <a:noFill/>
          </a:ln>
        </p:spPr>
      </p:pic>
      <p:sp>
        <p:nvSpPr>
          <p:cNvPr id="213" name="WordArt 3"/>
          <p:cNvSpPr txBox="1"/>
          <p:nvPr/>
        </p:nvSpPr>
        <p:spPr>
          <a:xfrm>
            <a:off x="1116000" y="2421000"/>
            <a:ext cx="705636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eed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 Black"/>
              </a:rPr>
              <a:t>La B I B L 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eed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0.13093 C 0.00348 -0.1233 0.00504 -0.11751 0.00608 -0.10872 C 0.00504 -0.08097 0.00678 -0.08004 -0.00312 -0.06084 C -0.00607 -0.05506 -0.00746 -0.04927 -0.01249 -0.04696 C -0.01874 -0.03447 -0.02065 -0.01273 -0.00833 -0.00717 C -0.00763 -0.00579 -0.00728 -0.00394 -0.00624 -0.00301 C -0.00433 -0.00139 5.55556E-006 -0.00023 5.55556E-006 -0.00023 E">
                                      <p:cBhvr>
                                        <p:cTn id="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3"/>
          <p:cNvSpPr txBox="1"/>
          <p:nvPr/>
        </p:nvSpPr>
        <p:spPr>
          <a:xfrm>
            <a:off x="1979640" y="981000"/>
            <a:ext cx="172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eed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 Black"/>
              </a:rPr>
              <a:t>Quel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eed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eed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 Black"/>
              </a:rPr>
              <a:t>livr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eed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419360" cy="5905440"/>
          </a:xfrm>
          <a:prstGeom prst="rect">
            <a:avLst/>
          </a:prstGeom>
          <a:ln w="0">
            <a:noFill/>
          </a:ln>
        </p:spPr>
      </p:pic>
      <p:sp>
        <p:nvSpPr>
          <p:cNvPr id="216" name="WordArt 3"/>
          <p:cNvSpPr txBox="1"/>
          <p:nvPr/>
        </p:nvSpPr>
        <p:spPr>
          <a:xfrm>
            <a:off x="1332000" y="3500280"/>
            <a:ext cx="307800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eed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 Black"/>
              </a:rPr>
              <a:t>merveilleux 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eed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rcRect l="0" t="0" r="3092" b="4470"/>
          <a:stretch/>
        </p:blipFill>
        <p:spPr>
          <a:xfrm>
            <a:off x="0" y="2357280"/>
            <a:ext cx="4500720" cy="41673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3"/>
          <p:cNvSpPr txBox="1"/>
          <p:nvPr/>
        </p:nvSpPr>
        <p:spPr>
          <a:xfrm>
            <a:off x="3492360" y="404640"/>
            <a:ext cx="5448600" cy="38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eed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 Black"/>
              </a:rPr>
              <a:t>Je m'y tiens ferme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eed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eed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 Black"/>
              </a:rPr>
              <a:t>et je crois toujours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eed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eed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Arial Black"/>
              </a:rPr>
              <a:t>à la B I B L 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eed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0:06:54Z</dcterms:created>
  <dc:creator>Corinne RUHLAND</dc:creator>
  <dc:description/>
  <dc:language>en-US</dc:language>
  <cp:lastModifiedBy>Philippe</cp:lastModifiedBy>
  <dcterms:modified xsi:type="dcterms:W3CDTF">2010-06-26T14:07:25Z</dcterms:modified>
  <cp:revision>5</cp:revision>
  <dc:subject/>
  <dc:title>Diapositive 1</dc:title>
</cp:coreProperties>
</file>