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278E-5733-4B96-9A71-28F16D3ED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027E-7A6D-4D01-AC3C-BC9330BD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FE58-8769-4D1C-A1B3-CF4EAC3EC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80CB-7F51-47FB-9D45-DAA28EA30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7EFD-9463-4CD4-BBBA-6AFAA08A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7B52-C0A3-47FE-80E5-A6DC426D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5E74-CD03-4F57-9C3D-5F7DDBFD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2C69-69FF-480D-BB93-92654F2C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D9EF-4AB6-4F66-B93B-C2E00F3D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69B1-AFAF-4B7F-8FFE-04DB4F78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1C70-DBAE-4749-BC83-36BBCDCC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02B2-E18F-431F-9AC3-9B8574D7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0CBC-F74C-464D-80CC-198591E97E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 rot="20321400">
            <a:off x="552240" y="4682880"/>
            <a:ext cx="133164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17365d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006699"/>
                    </a:gs>
                  </a:gsLst>
                  <a:lin ang="6678000"/>
                </a:gradFill>
                <a:latin typeface="Arial Black"/>
              </a:rPr>
              <a:t>?</a:t>
            </a:r>
            <a:endParaRPr b="0" lang="en-US" sz="1800" spc="1" strike="noStrike">
              <a:ln w="9360">
                <a:solidFill>
                  <a:srgbClr val="17365d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006699"/>
                  </a:gs>
                </a:gsLst>
                <a:lin ang="6678000"/>
              </a:gradFill>
              <a:latin typeface="Arial Black"/>
              <a:ea typeface="Arial Black"/>
            </a:endParaRPr>
          </a:p>
        </p:txBody>
      </p:sp>
      <p:sp>
        <p:nvSpPr>
          <p:cNvPr id="42" name="WordArt 7"/>
          <p:cNvSpPr txBox="1"/>
          <p:nvPr/>
        </p:nvSpPr>
        <p:spPr>
          <a:xfrm rot="1419600">
            <a:off x="758880" y="999720"/>
            <a:ext cx="1868400" cy="230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36c0a"/>
                  </a:solidFill>
                  <a:miter/>
                </a:ln>
                <a:gradFill rotWithShape="0">
                  <a:gsLst>
                    <a:gs pos="0">
                      <a:srgbClr val="f8b049"/>
                    </a:gs>
                    <a:gs pos="100000">
                      <a:srgbClr val="f8b049"/>
                    </a:gs>
                  </a:gsLst>
                  <a:lin ang="3978000"/>
                </a:gradFill>
                <a:latin typeface="Arabic Typesetting"/>
              </a:rPr>
              <a:t>?</a:t>
            </a:r>
            <a:endParaRPr b="0" lang="en-US" sz="1800" spc="1" strike="noStrike">
              <a:ln w="9360">
                <a:solidFill>
                  <a:srgbClr val="e36c0a"/>
                </a:solidFill>
                <a:miter/>
              </a:ln>
              <a:gradFill rotWithShape="0">
                <a:gsLst>
                  <a:gs pos="0">
                    <a:srgbClr val="f8b049"/>
                  </a:gs>
                  <a:gs pos="100000">
                    <a:srgbClr val="f8b049"/>
                  </a:gs>
                </a:gsLst>
                <a:lin ang="3978000"/>
              </a:gradFill>
              <a:latin typeface="Arabic Typesetting"/>
              <a:ea typeface="Arabic Typesetting"/>
            </a:endParaRPr>
          </a:p>
        </p:txBody>
      </p:sp>
      <p:sp>
        <p:nvSpPr>
          <p:cNvPr id="43" name="WordArt 1"/>
          <p:cNvSpPr txBox="1"/>
          <p:nvPr/>
        </p:nvSpPr>
        <p:spPr>
          <a:xfrm>
            <a:off x="2928960" y="4214880"/>
            <a:ext cx="1938240" cy="22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97470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Disney Comic"/>
              </a:rPr>
              <a:t>?</a:t>
            </a:r>
            <a:endParaRPr b="0" lang="en-US" sz="1800" spc="1" strike="noStrike">
              <a:ln w="38160">
                <a:solidFill>
                  <a:srgbClr val="97470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Disney Comic"/>
              <a:ea typeface="Disney Comic"/>
            </a:endParaRPr>
          </a:p>
        </p:txBody>
      </p:sp>
      <p:sp>
        <p:nvSpPr>
          <p:cNvPr id="44" name="WordArt 5"/>
          <p:cNvSpPr txBox="1"/>
          <p:nvPr/>
        </p:nvSpPr>
        <p:spPr>
          <a:xfrm rot="20321400">
            <a:off x="3481200" y="753840"/>
            <a:ext cx="133164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6678000"/>
                </a:gradFill>
                <a:latin typeface="Baby Kruffy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6678000"/>
              </a:gradFill>
              <a:latin typeface="Baby Kruffy"/>
              <a:ea typeface="Baby Kruffy"/>
            </a:endParaRPr>
          </a:p>
        </p:txBody>
      </p:sp>
      <p:sp>
        <p:nvSpPr>
          <p:cNvPr id="45" name="WordArt 4"/>
          <p:cNvSpPr txBox="1"/>
          <p:nvPr/>
        </p:nvSpPr>
        <p:spPr>
          <a:xfrm rot="1221600">
            <a:off x="6486120" y="3714840"/>
            <a:ext cx="2130480" cy="269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20376000"/>
                </a:gradFill>
                <a:latin typeface="Donald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20376000"/>
              </a:gradFill>
              <a:latin typeface="Donald"/>
              <a:ea typeface="Donald"/>
            </a:endParaRPr>
          </a:p>
        </p:txBody>
      </p:sp>
      <p:sp>
        <p:nvSpPr>
          <p:cNvPr id="46" name="WordArt 2"/>
          <p:cNvSpPr txBox="1"/>
          <p:nvPr/>
        </p:nvSpPr>
        <p:spPr>
          <a:xfrm rot="20321400">
            <a:off x="6052680" y="753840"/>
            <a:ext cx="133200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548dd4"/>
                  </a:solidFill>
                  <a:miter/>
                </a:ln>
                <a:gradFill rotWithShape="0">
                  <a:gsLst>
                    <a:gs pos="0">
                      <a:srgbClr val="dde8f6"/>
                    </a:gs>
                    <a:gs pos="100000">
                      <a:srgbClr val="548dd4"/>
                    </a:gs>
                  </a:gsLst>
                  <a:lin ang="20178000"/>
                </a:gradFill>
                <a:latin typeface="Scruff LET"/>
              </a:rPr>
              <a:t>?</a:t>
            </a:r>
            <a:endParaRPr b="1" lang="en-US" sz="1800" spc="1" strike="noStrike">
              <a:ln w="57240">
                <a:solidFill>
                  <a:srgbClr val="548dd4"/>
                </a:solidFill>
                <a:miter/>
              </a:ln>
              <a:gradFill rotWithShape="0">
                <a:gsLst>
                  <a:gs pos="0">
                    <a:srgbClr val="dde8f6"/>
                  </a:gs>
                  <a:gs pos="100000">
                    <a:srgbClr val="548dd4"/>
                  </a:gs>
                </a:gsLst>
                <a:lin ang="20178000"/>
              </a:gradFill>
              <a:latin typeface="Scruff LET"/>
              <a:ea typeface="Scruff LET"/>
            </a:endParaRPr>
          </a:p>
        </p:txBody>
      </p:sp>
      <p:sp>
        <p:nvSpPr>
          <p:cNvPr id="47" name="WordArt 6"/>
          <p:cNvSpPr txBox="1"/>
          <p:nvPr/>
        </p:nvSpPr>
        <p:spPr>
          <a:xfrm rot="1827000">
            <a:off x="7716960" y="646200"/>
            <a:ext cx="958680" cy="13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3576000"/>
                </a:gradFill>
                <a:latin typeface="Century Gothic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3576000"/>
              </a:gradFill>
              <a:latin typeface="Century Gothic"/>
              <a:ea typeface="Century Gothic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4481640" y="-1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1765440" y="2050200"/>
            <a:ext cx="5260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Calibri"/>
                <a:ea typeface="Calibri"/>
              </a:rPr>
              <a:t>Mystère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Image 4" descr="Msg_Noel_2009.jpg"/>
          <p:cNvPicPr/>
          <p:nvPr/>
        </p:nvPicPr>
        <p:blipFill>
          <a:blip r:embed="rId1"/>
          <a:stretch/>
        </p:blipFill>
        <p:spPr>
          <a:xfrm>
            <a:off x="-6480" y="-6480"/>
            <a:ext cx="9948960" cy="70772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1730160" y="1495440"/>
            <a:ext cx="5619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  <a:ea typeface="Calibri"/>
              </a:rPr>
              <a:t>Il n’y a pas de plus beau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  <a:ea typeface="Calibri"/>
              </a:rPr>
              <a:t>de plus grand mystèr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que le Dieu tout-puissa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qui descend sur terre 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362160" y="392760"/>
            <a:ext cx="42271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Calibri"/>
                <a:ea typeface="Calibri"/>
              </a:rPr>
              <a:t>Il s’appelle Jésus ;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mage 1" descr="Jesus_111.jpg"/>
          <p:cNvPicPr/>
          <p:nvPr/>
        </p:nvPicPr>
        <p:blipFill>
          <a:blip r:embed="rId1"/>
          <a:srcRect l="0" t="0" r="0" b="45041"/>
          <a:stretch/>
        </p:blipFill>
        <p:spPr>
          <a:xfrm>
            <a:off x="142920" y="3929040"/>
            <a:ext cx="8850240" cy="27097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363960" y="1509480"/>
            <a:ext cx="5036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il  m’a donné sa vie 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je veux chan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son amour infini 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Image 10" descr="0a1.jpg"/>
          <p:cNvPicPr/>
          <p:nvPr/>
        </p:nvPicPr>
        <p:blipFill>
          <a:blip r:embed="rId1"/>
          <a:stretch/>
        </p:blipFill>
        <p:spPr>
          <a:xfrm>
            <a:off x="4678200" y="390600"/>
            <a:ext cx="4214880" cy="4437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662040" y="1212120"/>
            <a:ext cx="5403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Il n’y a p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de plus beau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de pl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grand mystère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que le Die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tout-puissa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qui descend sur terre 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362160" y="392760"/>
            <a:ext cx="42271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Calibri"/>
                <a:ea typeface="Calibri"/>
              </a:rPr>
              <a:t>Il s’appelle Jésus ;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Image 1" descr="Jesus_111.jpg"/>
          <p:cNvPicPr/>
          <p:nvPr/>
        </p:nvPicPr>
        <p:blipFill>
          <a:blip r:embed="rId1"/>
          <a:srcRect l="0" t="0" r="0" b="45041"/>
          <a:stretch/>
        </p:blipFill>
        <p:spPr>
          <a:xfrm>
            <a:off x="142920" y="3929040"/>
            <a:ext cx="8850240" cy="27097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363960" y="1509480"/>
            <a:ext cx="5036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il  m’a donné sa vie 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je veux chan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son amour infini 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504720" y="43920"/>
            <a:ext cx="57229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Le moment était venu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Il fallait partir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quitter l’endroi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 plus beau 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sachant qu’il allait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souffrir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Image 20" descr="1776263.jpg"/>
          <p:cNvPicPr/>
          <p:nvPr/>
        </p:nvPicPr>
        <p:blipFill>
          <a:blip r:embed="rId1"/>
          <a:stretch/>
        </p:blipFill>
        <p:spPr>
          <a:xfrm>
            <a:off x="4429080" y="3875040"/>
            <a:ext cx="400068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age 2" descr="chemin_de_lumiere_2.jpg"/>
          <p:cNvPicPr/>
          <p:nvPr/>
        </p:nvPicPr>
        <p:blipFill>
          <a:blip r:embed="rId1"/>
          <a:srcRect l="2167" t="2549" r="2054" b="11976"/>
          <a:stretch/>
        </p:blipFill>
        <p:spPr>
          <a:xfrm>
            <a:off x="0" y="0"/>
            <a:ext cx="97567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380160" y="253800"/>
            <a:ext cx="47498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Il a quitté les an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et la présen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de son pè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ar amou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our chaqu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habita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de la terre 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 10" descr="0a1.jpg"/>
          <p:cNvPicPr/>
          <p:nvPr/>
        </p:nvPicPr>
        <p:blipFill>
          <a:blip r:embed="rId1"/>
          <a:stretch/>
        </p:blipFill>
        <p:spPr>
          <a:xfrm>
            <a:off x="4678200" y="390600"/>
            <a:ext cx="4214880" cy="4437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662040" y="1212120"/>
            <a:ext cx="5403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Il n’y a p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de plus beau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de pl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grand mystère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que le Die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tout-puissa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qui descend sur terre 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362160" y="392760"/>
            <a:ext cx="42271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Calibri"/>
                <a:ea typeface="Calibri"/>
              </a:rPr>
              <a:t>Il s’appelle Jésus ;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Image 1" descr="Jesus_111.jpg"/>
          <p:cNvPicPr/>
          <p:nvPr/>
        </p:nvPicPr>
        <p:blipFill>
          <a:blip r:embed="rId1"/>
          <a:srcRect l="0" t="0" r="0" b="45041"/>
          <a:stretch/>
        </p:blipFill>
        <p:spPr>
          <a:xfrm>
            <a:off x="142920" y="3929040"/>
            <a:ext cx="8850240" cy="27097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363960" y="1509480"/>
            <a:ext cx="5036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il  m’a donné sa vie 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je veux chan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son amour infini 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mage 4" descr="crucifixion-lion-and-lamb-graphic.jpg"/>
          <p:cNvPicPr/>
          <p:nvPr/>
        </p:nvPicPr>
        <p:blipFill>
          <a:blip r:embed="rId1"/>
          <a:stretch/>
        </p:blipFill>
        <p:spPr>
          <a:xfrm>
            <a:off x="4711680" y="-6480"/>
            <a:ext cx="4438800" cy="67312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264600" y="464400"/>
            <a:ext cx="4572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Calibri"/>
                <a:ea typeface="Calibri"/>
              </a:rPr>
              <a:t>Au moment de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Calibri"/>
                <a:ea typeface="Calibri"/>
              </a:rPr>
              <a:t>mourir,</a:t>
            </a:r>
            <a:r>
              <a:rPr b="1" lang="fr-FR" sz="4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Calibri"/>
                <a:ea typeface="Calibri"/>
              </a:rPr>
              <a:t>Jésus s’est livré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1" lang="fr-FR" sz="4200" spc="-1" strike="noStrike">
                <a:solidFill>
                  <a:srgbClr val="000000"/>
                </a:solidFill>
                <a:latin typeface="Calibri"/>
                <a:ea typeface="Calibri"/>
              </a:rPr>
              <a:t>;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Calibri"/>
              </a:rPr>
              <a:t>c’était à toi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Calibri"/>
              </a:rPr>
              <a:t>et moi qu’il pensait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Calibri"/>
              </a:rPr>
              <a:t>et là,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Calibri"/>
              </a:rPr>
              <a:t>sur cette croix,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Calibri"/>
              </a:rPr>
              <a:t>il a porté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Calibri"/>
              </a:rPr>
              <a:t>nos péché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Image 8" descr="11412392538T596f.jpg"/>
          <p:cNvPicPr/>
          <p:nvPr/>
        </p:nvPicPr>
        <p:blipFill>
          <a:blip r:embed="rId1"/>
          <a:stretch/>
        </p:blipFill>
        <p:spPr>
          <a:xfrm>
            <a:off x="1214280" y="0"/>
            <a:ext cx="7205760" cy="73724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1187280" y="172440"/>
            <a:ext cx="7000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  <a:ea typeface="Calibri"/>
              </a:rPr>
              <a:t>pour que celui qui cro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  <a:ea typeface="Calibri"/>
              </a:rPr>
              <a:t>soit pardonné 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 10" descr="0a1.jpg"/>
          <p:cNvPicPr/>
          <p:nvPr/>
        </p:nvPicPr>
        <p:blipFill>
          <a:blip r:embed="rId1"/>
          <a:stretch/>
        </p:blipFill>
        <p:spPr>
          <a:xfrm>
            <a:off x="4678200" y="390600"/>
            <a:ext cx="4214880" cy="4437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662040" y="1212120"/>
            <a:ext cx="5403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Il n’y a p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de plus beau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de pl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grand mystère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que le Die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tout-puissa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qui descend sur terre 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362160" y="392760"/>
            <a:ext cx="42271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Calibri"/>
                <a:ea typeface="Calibri"/>
              </a:rPr>
              <a:t>Il s’appelle Jésus ;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mage 1" descr="Jesus_111.jpg"/>
          <p:cNvPicPr/>
          <p:nvPr/>
        </p:nvPicPr>
        <p:blipFill>
          <a:blip r:embed="rId1"/>
          <a:srcRect l="0" t="0" r="0" b="45041"/>
          <a:stretch/>
        </p:blipFill>
        <p:spPr>
          <a:xfrm>
            <a:off x="142920" y="3929040"/>
            <a:ext cx="8850240" cy="27097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363960" y="1509480"/>
            <a:ext cx="5036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il  m’a donné sa vie 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je veux chan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son amour infini 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09:31:40Z</dcterms:created>
  <dc:creator>Corinne RUHLAND</dc:creator>
  <dc:description/>
  <dc:language>en-US</dc:language>
  <cp:lastModifiedBy>Philippe</cp:lastModifiedBy>
  <dcterms:modified xsi:type="dcterms:W3CDTF">2010-06-26T14:30:13Z</dcterms:modified>
  <cp:revision>10</cp:revision>
  <dc:subject/>
  <dc:title>Diapositive 1</dc:title>
</cp:coreProperties>
</file>