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E73-1134-4BE4-81FC-8716520C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8FC-A8F6-4CA3-BBB6-40DBA5B6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60B0-8840-41CF-94CE-B5B4451E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131A-5676-4703-BF58-BA88CEB4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6B1-D7CB-4A9C-8094-D4F5741B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2BB-5445-42E6-B936-05F8ABF9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DF4-7882-4C44-AD7B-3E0E7EA4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5FE-BA0E-41BE-A1DD-1791E11B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B912-9817-4D5C-A9BB-55D9BC3C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9BE-D916-4147-8FE3-089A29BC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09B2-5EA6-428B-A412-241BDD9B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C1C-5FBC-41A9-928B-5619F3B5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1121-19D6-4EDE-8462-1488E8AA4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Chants de Noë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22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st Noë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Cher enfant Jésus je t</a:t>
            </a:r>
            <a:r>
              <a:rPr b="0" i="1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Ding, dong, c</a:t>
            </a:r>
            <a:r>
              <a:rPr b="0" i="1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st Noë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Mystè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age 6" descr=""/>
          <p:cNvPicPr/>
          <p:nvPr/>
        </p:nvPicPr>
        <p:blipFill>
          <a:blip r:embed="rId1"/>
          <a:stretch/>
        </p:blipFill>
        <p:spPr>
          <a:xfrm>
            <a:off x="2195640" y="3645000"/>
            <a:ext cx="48481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3" descr=""/>
          <p:cNvPicPr/>
          <p:nvPr/>
        </p:nvPicPr>
        <p:blipFill>
          <a:blip r:embed="rId1"/>
          <a:stretch/>
        </p:blipFill>
        <p:spPr>
          <a:xfrm>
            <a:off x="6875640" y="4575240"/>
            <a:ext cx="2155680" cy="2293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 baseline="30000">
                <a:solidFill>
                  <a:srgbClr val="000000"/>
                </a:solidFill>
                <a:latin typeface="Calibri"/>
              </a:rPr>
              <a:t>« C’est Noël 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54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est Noël, en ce jour de fêt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enfants et parent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tout le monde est conte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54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est Noël, que chacun le répèt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dans son cœur et dans ses chants. (x2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 baseline="30000">
                <a:solidFill>
                  <a:srgbClr val="000000"/>
                </a:solidFill>
                <a:latin typeface="Calibri"/>
              </a:rPr>
              <a:t>« Cher enfant Jésus je t</a:t>
            </a:r>
            <a:r>
              <a:rPr b="1" lang="ja-JP" sz="72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1" lang="fr-FR" sz="7200" spc="-1" strike="noStrike" baseline="30000">
                <a:solidFill>
                  <a:srgbClr val="000000"/>
                </a:solidFill>
                <a:latin typeface="Calibri"/>
              </a:rPr>
              <a:t>aime 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Cher enfant Jésus je t</a:t>
            </a:r>
            <a:r>
              <a:rPr b="0" lang="ja-JP" sz="54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aim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toi qui es si peti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Tu dois dormir dans la crèch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il n</a:t>
            </a:r>
            <a:r>
              <a:rPr b="0" lang="ja-JP" sz="54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y a pas d</a:t>
            </a:r>
            <a:r>
              <a:rPr b="0" lang="ja-JP" sz="54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autre li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e 3" descr=""/>
          <p:cNvPicPr/>
          <p:nvPr/>
        </p:nvPicPr>
        <p:blipFill>
          <a:blip r:embed="rId1"/>
          <a:stretch/>
        </p:blipFill>
        <p:spPr>
          <a:xfrm>
            <a:off x="4643280" y="3645000"/>
            <a:ext cx="42134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4" descr=""/>
          <p:cNvPicPr/>
          <p:nvPr/>
        </p:nvPicPr>
        <p:blipFill>
          <a:blip r:embed="rId1"/>
          <a:stretch/>
        </p:blipFill>
        <p:spPr>
          <a:xfrm>
            <a:off x="5487840" y="4437000"/>
            <a:ext cx="3656160" cy="2287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 baseline="30000">
                <a:solidFill>
                  <a:srgbClr val="000000"/>
                </a:solidFill>
                <a:latin typeface="Calibri"/>
              </a:rPr>
              <a:t>« Ding, dong, c‘est noël 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Ding Dong, c</a:t>
            </a:r>
            <a:r>
              <a:rPr b="0" lang="ja-JP" sz="54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est Noël, Jésus nous est né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Car le bébé de cette crèch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sera le Sauveur des enfant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Ding Dong, c</a:t>
            </a:r>
            <a:r>
              <a:rPr b="0" lang="ja-JP" sz="54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est Noël, Jésus nous est né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Car le bébé de cette crèch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sera le Sauveur des parent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Mystè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Le moment était venu ... Il fallait partir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quitter l</a:t>
            </a:r>
            <a:r>
              <a:rPr b="0" lang="ja-JP" sz="5400" spc="-1" strike="noStrike" baseline="30000">
                <a:solidFill>
                  <a:srgbClr val="000000"/>
                </a:solidFill>
                <a:latin typeface="Calibri"/>
              </a:rPr>
              <a:t>‘</a:t>
            </a: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endroit le plus beau 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sachant qu</a:t>
            </a:r>
            <a:r>
              <a:rPr b="0" lang="ja-JP" sz="5400" spc="-1" strike="noStrike" baseline="30000">
                <a:solidFill>
                  <a:srgbClr val="000000"/>
                </a:solidFill>
                <a:latin typeface="Calibri"/>
              </a:rPr>
              <a:t>‘</a:t>
            </a: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il allait ... souffrir 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Il a quitté les anges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et la présence de son pè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par amour pour chaqu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habitant de la terre 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mage 4" descr=""/>
          <p:cNvPicPr/>
          <p:nvPr/>
        </p:nvPicPr>
        <p:blipFill>
          <a:blip r:embed="rId1"/>
          <a:stretch/>
        </p:blipFill>
        <p:spPr>
          <a:xfrm>
            <a:off x="6369120" y="3763800"/>
            <a:ext cx="27684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Refrai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Il n</a:t>
            </a:r>
            <a:r>
              <a:rPr b="0" lang="ja-JP" sz="5400" spc="-1" strike="noStrike" baseline="30000">
                <a:solidFill>
                  <a:srgbClr val="000000"/>
                </a:solidFill>
                <a:latin typeface="Calibri"/>
              </a:rPr>
              <a:t>‘</a:t>
            </a: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y a pas de plus beau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de plus grand mystère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que le Dieu tout-puissant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qui descend sur terre 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Il s</a:t>
            </a:r>
            <a:r>
              <a:rPr b="0" lang="ja-JP" sz="5400" spc="-1" strike="noStrike" baseline="30000">
                <a:solidFill>
                  <a:srgbClr val="000000"/>
                </a:solidFill>
                <a:latin typeface="Calibri"/>
              </a:rPr>
              <a:t>‘</a:t>
            </a: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appelle Jésu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il m</a:t>
            </a:r>
            <a:r>
              <a:rPr b="0" lang="ja-JP" sz="54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a donné sa vie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Je veux chanter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son amour infini 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mage 4" descr=""/>
          <p:cNvPicPr/>
          <p:nvPr/>
        </p:nvPicPr>
        <p:blipFill>
          <a:blip r:embed="rId1"/>
          <a:stretch/>
        </p:blipFill>
        <p:spPr>
          <a:xfrm>
            <a:off x="5923080" y="4309920"/>
            <a:ext cx="32209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Au moment de mourir Jésus s</a:t>
            </a:r>
            <a:r>
              <a:rPr b="0" lang="ja-JP" sz="5400" spc="-1" strike="noStrike" baseline="30000">
                <a:solidFill>
                  <a:srgbClr val="000000"/>
                </a:solidFill>
                <a:latin typeface="Calibri"/>
              </a:rPr>
              <a:t>‘</a:t>
            </a: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est livré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5400" spc="-1" strike="noStrike" baseline="30000">
                <a:solidFill>
                  <a:srgbClr val="000000"/>
                </a:solidFill>
                <a:latin typeface="Calibri"/>
              </a:rPr>
              <a:t>‘</a:t>
            </a: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était à toi et moi qu</a:t>
            </a:r>
            <a:r>
              <a:rPr b="0" lang="ja-JP" sz="5400" spc="-1" strike="noStrike" baseline="30000">
                <a:solidFill>
                  <a:srgbClr val="000000"/>
                </a:solidFill>
                <a:latin typeface="Calibri"/>
              </a:rPr>
              <a:t>‘</a:t>
            </a: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il pensai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et là, sur cette croix, il a porté nos péché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pour que celui qui croit soit pardonné 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Image 3" descr=""/>
          <p:cNvPicPr/>
          <p:nvPr/>
        </p:nvPicPr>
        <p:blipFill>
          <a:blip r:embed="rId1"/>
          <a:stretch/>
        </p:blipFill>
        <p:spPr>
          <a:xfrm>
            <a:off x="5923080" y="4309920"/>
            <a:ext cx="32209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Refrain (x3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Il n</a:t>
            </a:r>
            <a:r>
              <a:rPr b="0" lang="ja-JP" sz="5400" spc="-1" strike="noStrike" baseline="30000">
                <a:solidFill>
                  <a:srgbClr val="000000"/>
                </a:solidFill>
                <a:latin typeface="Calibri"/>
              </a:rPr>
              <a:t>‘</a:t>
            </a: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y a pas de plus beau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de plus grand mystère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que le Dieu tout-puissant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qui descend sur terre 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Il s</a:t>
            </a:r>
            <a:r>
              <a:rPr b="0" lang="ja-JP" sz="5400" spc="-1" strike="noStrike" baseline="30000">
                <a:solidFill>
                  <a:srgbClr val="000000"/>
                </a:solidFill>
                <a:latin typeface="Calibri"/>
              </a:rPr>
              <a:t>‘</a:t>
            </a: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appelle Jésu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il m</a:t>
            </a:r>
            <a:r>
              <a:rPr b="0" lang="ja-JP" sz="54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a donné sa vie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Je veux chanter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baseline="30000">
                <a:solidFill>
                  <a:srgbClr val="000000"/>
                </a:solidFill>
                <a:latin typeface="Calibri"/>
              </a:rPr>
              <a:t>son amour infini 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Image 4" descr=""/>
          <p:cNvPicPr/>
          <p:nvPr/>
        </p:nvPicPr>
        <p:blipFill>
          <a:blip r:embed="rId1"/>
          <a:stretch/>
        </p:blipFill>
        <p:spPr>
          <a:xfrm>
            <a:off x="5923080" y="4309920"/>
            <a:ext cx="32209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9:02:10Z</dcterms:created>
  <dc:creator>Nkids</dc:creator>
  <dc:description/>
  <dc:language>en-US</dc:language>
  <cp:lastModifiedBy>Philippe Mayhew</cp:lastModifiedBy>
  <dcterms:modified xsi:type="dcterms:W3CDTF">2014-09-12T06:53:55Z</dcterms:modified>
  <cp:revision>7</cp:revision>
  <dc:subject/>
  <dc:title>Chants de Noël</dc:title>
</cp:coreProperties>
</file>