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7CB-79F6-4713-AC93-438D8FD5BB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8AE-7942-478A-8691-45F00009E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92D-DA18-46BD-8A04-A1D342153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D461-E353-4BB8-B771-AC0C0A15A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A216-C923-4811-8D82-7C5F3AE76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5BC-3471-4029-8F52-4F59691F2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FE7-9775-4A64-80BE-3DF071CB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A81-C683-43B6-8E8E-1CFFBA4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6CE-815D-4055-B9B1-258C58B9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1C6-EC83-4EDB-9F58-2007A5F1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C11-2665-4ACB-A960-4B955B7E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7F8-B7E9-4E10-A761-4C1DABA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FF4-570B-4D51-B444-929E491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B7A-3A93-4558-8565-421DA89E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C22-CD62-43CC-A12E-62DEADE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B44-54EC-4716-A5A8-F6638679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0AF-3365-4A0E-B2A4-7B39C8D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FB9-DDEF-42D6-AF8C-1AD51E4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AFE-8073-4C33-998C-3A1851DDF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Isosceles Triangle 9">
            <a:hlinkClick r:id="" action="ppaction://hlinkshowjump?jump=firstslide"/>
          </p:cNvPr>
          <p:cNvSpPr/>
          <p:nvPr/>
        </p:nvSpPr>
        <p:spPr>
          <a:xfrm>
            <a:off x="8643960" y="6715080"/>
            <a:ext cx="142920" cy="117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Isosceles Triangle 9">
            <a:hlinkClick r:id="" action="ppaction://hlinkshowjump?jump=firstslide"/>
          </p:cNvPr>
          <p:cNvSpPr/>
          <p:nvPr/>
        </p:nvSpPr>
        <p:spPr>
          <a:xfrm>
            <a:off x="8643960" y="6715080"/>
            <a:ext cx="142920" cy="117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Isosceles Triangle 9">
            <a:hlinkClick r:id="" action="ppaction://hlinkshowjump?jump=firstslide"/>
          </p:cNvPr>
          <p:cNvSpPr/>
          <p:nvPr/>
        </p:nvSpPr>
        <p:spPr>
          <a:xfrm>
            <a:off x="8643960" y="6715080"/>
            <a:ext cx="142920" cy="117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5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Isosceles Triangle 9">
            <a:hlinkClick r:id="" action="ppaction://hlinkshowjump?jump=firstslide"/>
          </p:cNvPr>
          <p:cNvSpPr/>
          <p:nvPr/>
        </p:nvSpPr>
        <p:spPr>
          <a:xfrm>
            <a:off x="8643960" y="6715080"/>
            <a:ext cx="142920" cy="117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Isosceles Triangle 9">
            <a:hlinkClick r:id="" action="ppaction://hlinkshowjump?jump=firstslide"/>
          </p:cNvPr>
          <p:cNvSpPr/>
          <p:nvPr/>
        </p:nvSpPr>
        <p:spPr>
          <a:xfrm>
            <a:off x="8643960" y="6715080"/>
            <a:ext cx="142920" cy="117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07:36:13Z</dcterms:created>
  <dc:creator>Corinne RUHLAND</dc:creator>
  <dc:description/>
  <dc:language>en-US</dc:language>
  <cp:lastModifiedBy>Corinne RUHLAND</cp:lastModifiedBy>
  <dcterms:modified xsi:type="dcterms:W3CDTF">2011-09-03T07:27:20Z</dcterms:modified>
  <cp:revision>2</cp:revision>
  <dc:subject/>
  <dc:title>Diapositive 1</dc:title>
</cp:coreProperties>
</file>